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11.wmf" ContentType="image/x-wmf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dt" idx="13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move the slide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ftr" idx="14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 type="sldNum" idx="15"/>
          </p:nvPr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0C3E7-B334-406D-AC05-4FA5F2E56B7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Номер слайда 3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6EAAB-0280-4B33-9ADB-E6828E10D02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Номер слайда 3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4246D-25AD-44DA-B2F7-09757116F3A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Номер слайда 3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FD55C-1054-4873-85B8-444C309CAEB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Номер слайда 3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D059E-D93A-48CF-A712-D53333D0833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8C6A0-FDF8-4784-B363-B815237AB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522EF-7BD2-4BEC-8E11-E7756CDE0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A7C6A-0ECE-4893-8654-67E7FFA85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C2471-2398-402F-BB9D-CE233AF21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42181-78C6-467E-B0E6-AC26488BD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616BB-ACB9-47E4-B207-295C362BF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8987D-6CCF-4527-9A29-2D39680A3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82ECE-0039-473E-B0A6-9E44CE27D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F259B-A721-4EC0-8B9F-87A010C5F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8EBE6-D335-4338-8DF5-60474008E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26B9A-59FC-4EB9-AD34-6583066AC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7274A-2EC2-4687-9E5D-31DDCE9B6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327E8-057C-47E2-8B18-C0A563B55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53B5A-7CD3-40A1-A42A-47F5F9B9C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76AC2-DD08-48DD-A010-3D7C0E4F1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C2A23-8199-4686-8293-F1ED5586F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C4F3D-71DF-448A-A5A4-BC38BE64C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9AA12F-22BF-4474-B209-DEDBE578F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18E0D2-E0EA-418F-B753-9B5E59C23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FD5C75-3390-48BA-9C65-35A613F19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4B6C87-CD2B-4EDE-A3BC-0CC9AAFFC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E054EF-DBB7-457A-9A8B-FD35E3346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EC6D8-A93E-44B6-991E-3FF2F693D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24EAE5-83DE-4B53-B370-8615865A5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94A8D6-E90B-4410-A2D0-093E7938D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757938-4660-404F-957C-270893746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74EE17-8F59-4F90-924F-301DA3054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949C89-8440-4068-8DF1-16054B7CD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A1680B-58F8-43A3-B01D-B59AAC3AB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E26016-ADE1-4627-8FD0-77F43E914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6BD4B1-481A-4F6E-B991-933346739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89BD27-4106-4E33-B598-91720DF18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FCC6DF-A7F2-4944-A8D2-2E3CA4BA0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B3A1E-42C7-41B8-ACBE-3453B22E3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DA6515-A4FE-46F2-BC14-CCA881DB7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209F3C-ADB5-46A8-8801-F00B8A7B9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1A11F5-A9E2-40EE-983A-E7BD5E8AC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22718B-73E5-4A92-996C-359FE170B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D671DD-DE7C-4FDC-A025-384C0194B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F2E0BE-733F-40F0-A66B-1FE152645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2751A1-C9E4-40B9-BA02-E612D46D2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6B65E8-18CD-4003-A089-A314922C8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7DBF7B-CCC4-4E7A-B50A-FE01018D4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AA271-1081-4C95-9DDF-A1BF460ED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E8CFC-A24D-453B-AACF-205276DE2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FB4B3-6516-4E39-854C-245799ECF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745B4-FC6D-4EE8-B556-D7B2E5836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E1809-C054-4422-B974-6460D2FCE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3EFF1-48B8-4F74-96B9-8C3C806C108E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16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Straight Connector 17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8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9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2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2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23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640" cy="569772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A029B-69F6-4DCE-8B9D-44547F97C0E9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8F03F-0020-4112-804B-F6AB7145179A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BEF71-E1CC-4E26-BE83-B11C3CD81B39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55160" y="1419120"/>
            <a:ext cx="7945560" cy="4533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657072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ru-RU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«Постоянно действующий семинар для родителей, специалистов учреждений, организаций города по решению остро возникающих вопросов в сфере профилактики безнадзорности, правонарушений, антиобщественных действий несовершеннолетних, защите их прав» </a:t>
            </a:r>
            <a:br>
              <a:rPr sz="2800"/>
            </a:br>
            <a:br>
              <a:rPr sz="2200"/>
            </a:br>
            <a:r>
              <a:rPr b="1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21 год</a:t>
            </a:r>
            <a:endParaRPr b="0" lang="en-US" sz="22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704880" y="225360"/>
            <a:ext cx="7456320" cy="96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ДМИНИСТРАЦИЯ ГОРОДА СУРГУТА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indent="0" algn="ctr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миссия по делам  несовершеннолетних 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indent="0" algn="ctr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 защите их прав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indent="0" algn="r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1" name="Rectangle 10"/>
          <p:cNvSpPr/>
          <p:nvPr/>
        </p:nvSpPr>
        <p:spPr>
          <a:xfrm>
            <a:off x="2803680" y="4381560"/>
            <a:ext cx="6197400" cy="20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Объект 1" descr=""/>
          <p:cNvPicPr/>
          <p:nvPr/>
        </p:nvPicPr>
        <p:blipFill>
          <a:blip r:embed="rId1"/>
          <a:stretch/>
        </p:blipFill>
        <p:spPr>
          <a:xfrm>
            <a:off x="1384200" y="73080"/>
            <a:ext cx="7570800" cy="3408480"/>
          </a:xfrm>
          <a:prstGeom prst="rect">
            <a:avLst/>
          </a:prstGeom>
          <a:ln w="0">
            <a:noFill/>
          </a:ln>
        </p:spPr>
      </p:pic>
      <p:sp>
        <p:nvSpPr>
          <p:cNvPr id="257" name="Прямоугольник 6"/>
          <p:cNvSpPr/>
          <p:nvPr/>
        </p:nvSpPr>
        <p:spPr>
          <a:xfrm>
            <a:off x="1001880" y="3736800"/>
            <a:ext cx="7943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- наличие оснований, предусмотренных ч.1 ст.5 Закона № 120-ФЗ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- нахождение несовершеннолетнего в обстановке, представляющей опасность (угрозу) для его жизни и (или) здоровья в связи с отсутствием контроля за его поведением вследствие неисполнения или ненадлежащего исполнения обязанностей по его воспитанию, обучению и (или) содержанию со стороны родителей или иных законных представителей либо должностных лиц, либо в связи с отсутствием у него места жительства и (или) места пребыва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Прямоугольник 6"/>
          <p:cNvSpPr/>
          <p:nvPr/>
        </p:nvSpPr>
        <p:spPr>
          <a:xfrm>
            <a:off x="1301760" y="1038240"/>
            <a:ext cx="736272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- совершение в течение календарного года повторного самовольного ухода из семьи, учреждения системы профилактики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- совершение суицидальной попытки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- возбуждение уголовного дела в отношении родителей либо одного                                       из родителей (законных представителей) несовершеннолетнего в связи с совершением в отношении него умышленного преступления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- совершение родителями, иными законными представителями действий, свидетельствующих о жестоком обращении с несовершеннолетним, выражающееся, в частности, в осуществлении физического или психического насилия над ними, в покушении на их половую неприкосновенность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ривлечение родителей либо одного из родителей (законных представителей) несовершеннолетних к административной ответственности в соответствии  с ч.1 ст.5.35, ч.1 ст.5.35.1,                   ст. 5.61, ст.6.1.1, ч.2 ст.6.10, ч.2 ст.6.23 КоАП РФ, при наличии фактов систематического нарушения прав и законных интересов ребенка, в следствии длительного непрекращающегося невыполнения или ненадлежащего выполнения обязанностей по воспитанию, содержанию и обучению дете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Прямоугольник 6"/>
          <p:cNvSpPr/>
          <p:nvPr/>
        </p:nvSpPr>
        <p:spPr>
          <a:xfrm>
            <a:off x="1284120" y="1197000"/>
            <a:ext cx="73630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-совершение родителями, законными представителями несовершеннолетнего действий, по вовлечению последних                                  в противоправные или антиобщественные действия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- систематическое употребление родителями либо одним из родителей или иными законными представителями, либо одним из законных представителей несовершеннолетних наркотических средств, психотропных и одурманивающих веществ, а также алкогольной и спиртосодержащей продукци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- иные обстоятельства, в случае необходимости предупреждения правонаруше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355400" y="184320"/>
            <a:ext cx="6807240" cy="85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3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Алгоритм проверки информации</a:t>
            </a:r>
            <a:endParaRPr b="0" lang="en-US" sz="23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483840" y="1298160"/>
            <a:ext cx="8589960" cy="52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Информация о выявлении несовершеннолетнего, права и законные интересы которого нарушены, находящегося в социально опасном положении, иной трудной жизненной ситуации, направляется в комиссию, управление по опеке и попечительству Администрации города, при необходимости в  соответствующие органы и учреждения системы профилактики по форме согласно приложению 3 к Регламенту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6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направляется незамедлительно (в течение суток) 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Запросы в органы и учреждения системы профилактики, иные заинтересованные организации с целью подготовки информации на заседание комиссии, для принятия коллегиального решения о целесообразности признания  несовершеннолетнего и (или) семьи, находящимся в социально опасном положении, и проведении индивидуальной профилактической работы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6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направляется в субъекты профилактики не позднее 3 рабочих дней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Информация органов и учреждений системы профилактики о ребенке и членах его семьи по запросам  управления по опеке и попечительству  и комиссии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6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в срок не позднее 3 рабочих дней с даты поступления запроса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355400" y="184320"/>
            <a:ext cx="6807240" cy="85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3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Алгоритм проверки информации</a:t>
            </a:r>
            <a:endParaRPr b="0" lang="en-US" sz="23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569520" y="1596960"/>
            <a:ext cx="8379000" cy="40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Управление по опеке и попечительству, организует обследование условий проживания выявленного ребенка и его семьи с целью оценки степени риска нарушения прав и законных интересов ребенка и готовит акт обследования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8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в течении 3 дней с даты поступления сообщения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о итогам обследования условий жизни ребенка и его семьи управление  по опеке  и попечительству готовит заключение для организации индивидуальной профилактической работы в отношении ребенка и его семьи.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8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готовится в течении 7 рабочих дней с даты поступления сведений о ребёнке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ts val="1562"/>
              </a:lnSpc>
              <a:spcBef>
                <a:spcPts val="26"/>
              </a:spcBef>
              <a:buClr>
                <a:srgbClr val="549e39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355400" y="184320"/>
            <a:ext cx="6807240" cy="85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3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Алгоритм принятия решений по фактам нарушения прав детей</a:t>
            </a:r>
            <a:endParaRPr b="0" lang="en-US" sz="23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83840" y="1298160"/>
            <a:ext cx="8589960" cy="52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Комиссия </a:t>
            </a:r>
            <a:r>
              <a:rPr b="1" i="1" lang="ru-RU" sz="18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не позднее 15 календарных дней </a:t>
            </a: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о дня получения информации                 о выявлении несовершеннолетнего и(или) членов его семьи, находящихся                                   в социально опасном положении, и иной трудной жизненной ситуации, заключения органа опеки, документов, предусмотренных ст. 6 Закона № 120-ФЗ, коллегиально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ринимает постановление об организации индивидуальной профилактической работы и (или) социального сопровождения семьи в отношении несовершеннолетнего и членов его семьи, признании несовершеннолетнего и (или) членов его семьи, находящимся в социально опасном положении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пределяет субъекты системы профилактики – участников индивидуальной профилактической работы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утверждает перечень неотложных мероприятий с несовершеннолетними                           и (или) членами их семей, находящимися в социально опасном положении, сформированных с учётом предложений (в пределах компетенции) субъектов системы профилактики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375920" y="315720"/>
            <a:ext cx="6807240" cy="58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3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Алгоритм реализации ИПР</a:t>
            </a:r>
            <a:endParaRPr b="0" lang="en-US" sz="23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553680" y="1193400"/>
            <a:ext cx="8448840" cy="52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ы и учреждения системы профилактики, определённые постановлением комиссии участниками реализации ИПР: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направляют в адрес комиссии и органов, учреждений системы профилактики, определенных постановлением комиссии участниками реализации ИПР, согласно приложению 7 к Регламенту  (данные исполнителя - </a:t>
            </a: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ФИО (полностью), наименования должности, контактного телефона, </a:t>
            </a: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и перечень мероприятий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8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в течение 10 рабочих дней, со дня получения копии постановления комиссии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направляют участника межведомственной рабочей группы в Отдел (каб.1, ул. Магистральная, 22) для выработки межведомственной ИПР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8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в сроки, указанные в постановлениях комиссии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участвуют в определении ответственного исполнителя за подготовку ИПР и  срока предоставления ИПР в адрес Отдела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8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на заседании межведомственной рабочей группы, дата, место и время проведения  которой указывается в постановлении об организации ИПР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375920" y="315720"/>
            <a:ext cx="6807240" cy="58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3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Алгоритм реализации ИПР</a:t>
            </a:r>
            <a:endParaRPr b="0" lang="en-US" sz="23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553680" y="1193400"/>
            <a:ext cx="8448840" cy="52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Комиссия  </a:t>
            </a:r>
            <a:r>
              <a:rPr b="1" i="1" lang="ru-RU" sz="18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не позднее 30 дней</a:t>
            </a: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со дня принятия постановления о признании несовершеннолетнего и (или) членов его семьи, находящимся в социально опасном положении, постановлением очередного заседания комиссии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утверждает ИПР</a:t>
            </a:r>
            <a:r>
              <a:rPr b="1" i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(приложение 11 к Регламенту)</a:t>
            </a: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назначает ответственного исполнителя (учреждение (орган)                                     за ознакомление несовершеннолетних и членов их семьи с ИПР,                             их персональное сопровождение, обобщение результатов межведомственной работы, подготовку аналитической информации о ходе исполнения ИПР     (не реже 1 раза в три месяца), а также подготовку заключения                                   по результатам реализации индивидуальной профилактической работы для направления в комиссию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пределяет сроки предоставления итоговой информации в адрес                          ответственного исполнителя  и заключения по результатам реализации ИПР в адрес отдела по организации работы комиссии по делам несовершеннолетних, защите их прав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375920" y="315720"/>
            <a:ext cx="6807240" cy="58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3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Сроки  реализации ИПР</a:t>
            </a:r>
            <a:endParaRPr b="0" lang="en-US" sz="23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984240" y="1193400"/>
            <a:ext cx="8018640" cy="52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Индивидуальная профилактическая работа с несовершеннолетним                            и (или)членами его семьи организуется на период, необходимый                                 на реализацию мероприятий, направленных на устранение причин                            и условий, обусловивших положение несовершеннолетнего                                               и (или) семьи как социально опасное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8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не менее 6 месяцев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ценка эффективности реализации ИПР осуществляется по мере необходимости, но </a:t>
            </a:r>
            <a:r>
              <a:rPr b="1" i="1" lang="ru-RU" sz="18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не реже одного раза в квартал </a:t>
            </a: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на заседании комиссии, по результатам которого выносится одно из следующих решений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- о внесении изменений и дополнений в ИПР;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- о прекращении индивидуальной профилактической работы                                     и исключении несовершеннолетнего и (или) членов его семьи из Реестра,                    с указанием оснований исключения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- о сборе документов для направления в судебные органы искового заявления  о лишении либо ограничении родительских прав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050480" y="315720"/>
            <a:ext cx="8093160" cy="89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3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  </a:t>
            </a:r>
            <a:r>
              <a:rPr b="1" i="1" lang="ru-RU" sz="23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О прекращении реализации ИПР</a:t>
            </a:r>
            <a:endParaRPr b="0" lang="en-US" sz="23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553680" y="1193400"/>
            <a:ext cx="8448840" cy="52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Итоговую информацию исполнители реализации ИПР направляют                   в адрес </a:t>
            </a:r>
            <a:r>
              <a:rPr b="1" lang="ru-RU" sz="20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ответственного исполнителя </a:t>
            </a:r>
            <a:r>
              <a:rPr b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 электронном виде                                             в формате </a:t>
            </a:r>
            <a:r>
              <a:rPr b="1" lang="en-US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word</a:t>
            </a:r>
            <a:r>
              <a:rPr b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и </a:t>
            </a:r>
            <a:r>
              <a:rPr b="1" lang="en-US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pdf</a:t>
            </a:r>
            <a:r>
              <a:rPr b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(с подписью руководителя)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   </a:t>
            </a:r>
            <a:r>
              <a:rPr b="1" i="1" lang="ru-RU" sz="20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в срок, утверждённый постановлением комиссии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Итоговыми документами являются: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аналитический отчёт о реализации мероприятий ИПР </a:t>
            </a:r>
            <a:r>
              <a:rPr b="1" lang="en-US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                                    </a:t>
            </a:r>
            <a:r>
              <a:rPr b="1" lang="ru-RU" sz="20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с мотивированными предложениями </a:t>
            </a:r>
            <a:r>
              <a:rPr b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 продолжении либо завершения ИПР в соответствии </a:t>
            </a:r>
            <a:r>
              <a:rPr b="1" i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 </a:t>
            </a:r>
            <a:r>
              <a:rPr b="1" i="1" lang="ru-RU" sz="20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приложением12 </a:t>
            </a:r>
            <a:r>
              <a:rPr b="1" i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к  </a:t>
            </a:r>
            <a:r>
              <a:rPr b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Регламенту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актуальный акт обследования условий жизни несовершеннолетнего и его семьи (для УМВД России по г. Сургута и Управления по опеке и попечительству)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704520" y="1415880"/>
            <a:ext cx="8273880" cy="3135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900"/>
            </a:br>
            <a:r>
              <a:rPr b="1" i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Об исполнении требований Регламента межведомственного взаимодействия субъектов системы профилактики безнадзорности                                                  и правонарушений несовершеннолетних и иных органов и организаций                                  в муниципальном образовании городской округ город Сургут при выявлении, учёте, организации и проведении индивидуальной профилактической работы  с несовершеннолетними и (или) семьями, находящимися в социально опасном положении и иной трудной жизненной ситуации (утверждённого постановлением комиссии от  05.12.2019  № 19-5-56 (с изменениями от 26.02.2021 </a:t>
            </a:r>
            <a:br>
              <a:rPr sz="2000"/>
            </a:br>
            <a:r>
              <a:rPr b="1" i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остановление № 5-3-14)</a:t>
            </a:r>
            <a:endParaRPr b="0" lang="en-US" sz="2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704880" y="74520"/>
            <a:ext cx="7456320" cy="96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ДМИНИСТРАЦИЯ ГОРОДА СУРГУТА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indent="0" algn="ctr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иссия по делам  несовершеннолетних 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indent="0" algn="ctr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защите их прав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indent="0" algn="r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4" name="Rectangle 10"/>
          <p:cNvSpPr/>
          <p:nvPr/>
        </p:nvSpPr>
        <p:spPr>
          <a:xfrm>
            <a:off x="2622600" y="5873760"/>
            <a:ext cx="312732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9"/>
          <p:cNvSpPr/>
          <p:nvPr/>
        </p:nvSpPr>
        <p:spPr>
          <a:xfrm>
            <a:off x="2685960" y="4551480"/>
            <a:ext cx="6292800" cy="12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rmAutofit fontScale="90000"/>
          </a:bodyPr>
          <a:p>
            <a:pPr marL="24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12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абазанова Валентина Николаевна – заместитель начальника отдела по организации работы комиссии по делам  несовершеннолетних, защите их прав, член комиссии по делам несовершеннолетних и защите их прав при Администрации города Сургута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Прямоугольник 3"/>
          <p:cNvSpPr/>
          <p:nvPr/>
        </p:nvSpPr>
        <p:spPr>
          <a:xfrm>
            <a:off x="3594600" y="5969160"/>
            <a:ext cx="203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марта 2021 г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050480" y="315720"/>
            <a:ext cx="8093160" cy="89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8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Аналитический отчёт должен содержать:</a:t>
            </a:r>
            <a:br>
              <a:rPr sz="2800"/>
            </a:br>
            <a:r>
              <a:rPr b="1" i="1" lang="ru-RU" sz="23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  </a:t>
            </a:r>
            <a:endParaRPr b="0" lang="en-US" sz="23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553680" y="1193400"/>
            <a:ext cx="8448840" cy="52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итическую записку с общим анализом достигнутых результатов профилактической работы с семьей,                           с оценкой эффективности/не эффективности проведенной работы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вод об устранении (сохранении) социально опасного опасного положения несовершеннолетнего и (или) членов его семьи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ложения о проведении дальнейшей профилактической работы с несовершеннолетним                      и членами его семьи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рамму для утверждения на новый период, с предложением о продолжении ИПР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433520" y="315720"/>
            <a:ext cx="7315200" cy="89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8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Аналитический отчёт должен содержать</a:t>
            </a:r>
            <a:br>
              <a:rPr sz="2800"/>
            </a:br>
            <a:r>
              <a:rPr b="1" i="1" lang="ru-RU" sz="23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  </a:t>
            </a:r>
            <a:endParaRPr b="0" lang="en-US" sz="23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1010880" y="1068120"/>
            <a:ext cx="7947000" cy="52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1) </a:t>
            </a: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 необходимости продолжения проведения индивидуальной профилактической работы (в этом случае предоставляя данные должностного лица, ответственного за проведение индивидуальной профилактической работы  с семьей, с указанием ФИО (полностью), наименования должности, контактного телефона, перечень планируемых мероприятий в рамках ИПР, необходимости включения нового исполнителям, не определенного постановлением комиссии ранее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2) о завершении индивидуальной профилактической работы                            с указанием оснований ( положительная реабилитация, и др.)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3) об исключении из числа участников реализации ИПР (с указанием оснований для исключения, это может  быть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– </a:t>
            </a: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исполнение органом или учреждением мероприятий ИПР с положительным результатом , если повторное их проведение не требуется;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- отказ родителей (иных законных представителей) от проведения индивидуальной профилактической работы (п.5.5.2. настоящего Регламента), иное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050480" y="315720"/>
            <a:ext cx="8093160" cy="89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8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Заключительный этап реализации ИПР </a:t>
            </a:r>
            <a:br>
              <a:rPr sz="2800"/>
            </a:br>
            <a:r>
              <a:rPr b="1" i="1" lang="ru-RU" sz="23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  </a:t>
            </a:r>
            <a:endParaRPr b="0" lang="en-US" sz="23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553680" y="1193760"/>
            <a:ext cx="8448840" cy="34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тветственный исполнитель на основании представленных аналитических отчётов готовит заключение и направляет его в адрес заместителя председателя комиссии (начальника Отдела) и на адрес электронной почты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konstantinova_ol@admsurgut.ru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050480" y="315720"/>
            <a:ext cx="8093160" cy="89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3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  </a:t>
            </a:r>
            <a:r>
              <a:rPr b="1" i="1" lang="ru-RU" sz="23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Ответственность за нарушение сроков реализации ИПР</a:t>
            </a:r>
            <a:endParaRPr b="0" lang="en-US" sz="23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553680" y="1193400"/>
            <a:ext cx="8448840" cy="52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ри установлении факта неисполнения в указанные сроки органами и учреждениями системы постановления об организациии проведении индивидуальной профилактической работы                                 с несовершеннолетним и (или)членами их семей, находящимися                   в социально опасном положении, комиссия инициирует перед руководителями вопрос о привлечении виновных лиц                                     к дисциплинарной ответственности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ри установлении признаков административного правонарушения, предусмотренного ст.6 Закона Ханты-Мансийского автономного округа – Югры от 11.06.2010 № 102-оз «Об административных правонарушениях» комиссия вправе направить соответствующие материалы в прокуратуру города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944640" y="240840"/>
            <a:ext cx="778968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Понятийный аппарат</a:t>
            </a:r>
            <a:br>
              <a:rPr sz="3200"/>
            </a:br>
            <a:endParaRPr b="0" lang="en-US" sz="28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83" name="Группа 5" descr=""/>
          <p:cNvPicPr/>
          <p:nvPr/>
        </p:nvPicPr>
        <p:blipFill>
          <a:blip r:embed="rId1"/>
          <a:stretch/>
        </p:blipFill>
        <p:spPr>
          <a:xfrm>
            <a:off x="414360" y="865080"/>
            <a:ext cx="8521560" cy="563904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926640" y="240840"/>
            <a:ext cx="779004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Понятийный аппарат</a:t>
            </a:r>
            <a:br>
              <a:rPr sz="3200"/>
            </a:br>
            <a:endParaRPr b="0" lang="en-US" sz="28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85" name="Группа 5" descr=""/>
          <p:cNvPicPr/>
          <p:nvPr/>
        </p:nvPicPr>
        <p:blipFill>
          <a:blip r:embed="rId1"/>
          <a:stretch/>
        </p:blipFill>
        <p:spPr>
          <a:xfrm>
            <a:off x="371520" y="1231920"/>
            <a:ext cx="8778960" cy="557676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926640" y="240840"/>
            <a:ext cx="779004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Понятийный аппарат</a:t>
            </a:r>
            <a:br>
              <a:rPr sz="3200"/>
            </a:br>
            <a:endParaRPr b="0" lang="en-US" sz="28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87" name="Группа 5" descr=""/>
          <p:cNvPicPr/>
          <p:nvPr/>
        </p:nvPicPr>
        <p:blipFill>
          <a:blip r:embed="rId1"/>
          <a:stretch/>
        </p:blipFill>
        <p:spPr>
          <a:xfrm>
            <a:off x="463680" y="1517760"/>
            <a:ext cx="8686800" cy="529092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 txBox="1"/>
          <p:nvPr/>
        </p:nvSpPr>
        <p:spPr>
          <a:xfrm>
            <a:off x="747360" y="1290240"/>
            <a:ext cx="8123400" cy="51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549e39"/>
              </a:buClr>
              <a:buSzPct val="80000"/>
              <a:buFont typeface="Wingdings 3" charset="2"/>
              <a:buChar char=""/>
              <a:tabLst>
                <a:tab algn="l" pos="657072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верка лиц, в отношении которых проводится индивидуальная профилактическая работа, включенных в реестр, находящихся в СОП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657072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ежеквартально в срок не позднее 10 числа следующего                                                  за отчётным периодом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549e39"/>
              </a:buClr>
              <a:buSzPct val="80000"/>
              <a:buFont typeface="Wingdings 3" charset="2"/>
              <a:buChar char=""/>
              <a:tabLst>
                <a:tab algn="l" pos="657072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верка данных об исполнении постановлений комиссии в рамках реализации ИПР с несовершеннолетними и членами их семей                             за прошедший месяц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657072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исты Отдела по организации работы комиссии по делам несовершеннолетних, защите их прав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657072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не позднее 10 числа каждого месяца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657072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руководители органов и учреждений системы профилактики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657072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в течение 3 рабочих дней с момента получения запроса о сверке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9" name="Прямоугольник 6"/>
          <p:cNvSpPr/>
          <p:nvPr/>
        </p:nvSpPr>
        <p:spPr>
          <a:xfrm>
            <a:off x="1247760" y="228600"/>
            <a:ext cx="626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одимые органами системы профилактики сверки в рамках Регламен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423800" y="104400"/>
            <a:ext cx="6646680" cy="106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200"/>
            </a:br>
            <a:r>
              <a:rPr b="1" i="1" lang="ru-RU" sz="22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Номера телефонов служб, занимающихся защитой прав несовершеннолетних:</a:t>
            </a:r>
            <a:endParaRPr b="0" lang="en-US" sz="22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800280" y="1170000"/>
            <a:ext cx="8053200" cy="534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Комиссия по делам несовершеннолетних </a:t>
            </a:r>
            <a:br>
              <a:rPr sz="1800"/>
            </a:br>
            <a:r>
              <a:rPr b="1" i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и защите их прав при Администрации города Сургута                                  (Детская общественная приемная):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(3462) 363859,  363858,  351811,  355091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Управление по опеке и попечительству Администрации города Сургута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</a:t>
            </a:r>
            <a:r>
              <a:rPr b="1" i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(3462) 522857,  522833,  252852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рокуратура города Сургута: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( 3462) 219901,  219955,  219945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Единый телефон вызова экстренных служб ( полиции, пожарной охраны, скорой помощи и службы спасения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112 (круглосуточно, с любого телефона бесплатно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Единый общероссийский номер Детского телефона доверия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8-800-2000-122 ( бесплатно, анонимно, круглосуточно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2509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Прямоугольник 1"/>
          <p:cNvSpPr/>
          <p:nvPr/>
        </p:nvSpPr>
        <p:spPr>
          <a:xfrm>
            <a:off x="611280" y="2521080"/>
            <a:ext cx="8064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 Cyr"/>
              </a:rPr>
              <a:t>а</a:t>
            </a:r>
            <a:r>
              <a:rPr b="0" lang="en-US" sz="3200" spc="-1" strike="noStrike">
                <a:solidFill>
                  <a:srgbClr val="000000"/>
                </a:solidFill>
                <a:latin typeface="Times New Roman Cyr"/>
              </a:rPr>
              <a:t>dmsurgut.ru/rubric/23868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 Cyr"/>
              </a:rPr>
              <a:t>Reglament-mezhvedomstvennogo-vzaimodeystviya-subekt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883880" y="119988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СЫЛКА НА РЕГЛАМЕНТ</a:t>
            </a: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130400" y="49320"/>
            <a:ext cx="7423200" cy="109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ядок взаимоинформирования </a:t>
            </a:r>
            <a:endParaRPr b="0" lang="en-US" sz="2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21840" y="596520"/>
            <a:ext cx="8434440" cy="58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3510000"/>
                <a:tab algn="l" pos="657072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выявлении случаев, предусмотренных ст.9 Закона № 120-ФЗ, а также Постановлением Правительства                          ХМАО – Югры от 02.09.2009 №232-п, субъекты системы профилактики направляют информацию в: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3510000"/>
                <a:tab algn="l" pos="657072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1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рокуратуру города Сургута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 нарушении прав и свобод несовершеннолетних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3510000"/>
                <a:tab algn="l" pos="657072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1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комиссию по делам несовершеннолетних и защите их прав </a:t>
            </a:r>
            <a:r>
              <a:rPr b="1" lang="ru-RU" sz="1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-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выявленных случаях нарушения прав несовершеннолетних на образование, труд, отдых, жилище и других прав, а также о недостатках в деятельности органов и учреждений, препятствующих предупреждению безнадзорности и правонарушений несовершеннолетних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3510000"/>
                <a:tab algn="l" pos="657072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1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управление по опеке и попечительству Администрации города Сургута </a:t>
            </a:r>
            <a:r>
              <a:rPr b="1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- о выявлении несовершеннолетних, оставшихся без попечения родителей или иных законных представителей, либо находящихся в обстановке, представляющей угрозу их жизни, здоровью или препятствующей их воспитанию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3510000"/>
                <a:tab algn="l" pos="657072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1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управление социальной защиты населения </a:t>
            </a:r>
            <a:r>
              <a:rPr b="1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- о выявлении несовершеннолетних, нуждающихся в помощи государства в связи с безнадзорностью или беспризорностью, в связи с самовольным уходом из детских домов, других детских учреждений, совершением неоднократных самовольных уходов, суицидальных попыток, систематическим агрессивным поведением, а также о выявлении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мей, </a:t>
            </a:r>
            <a:r>
              <a:rPr b="1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находящихся в социально опасном положении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3510000"/>
                <a:tab algn="l" pos="657072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1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УМВД России по г. Сургуту </a:t>
            </a:r>
            <a:r>
              <a:rPr b="1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- о выявлении родителей несовершеннолетних или иных их законных представителей и иных лиц, жестоко обращающихся с несовершеннолетними и (или) вовлекающих их в совершение преступления или антиобщественных действий, или совершающих по отношению к ним другие противоправные деяния, а также о несовершеннолетних, совершивших правонарушение или антиобщественные действия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3510000"/>
                <a:tab algn="l" pos="657072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1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бюджетное учреждение Ханты-Мансийского автономного округа – Югры «Сургутская клиническая психоневрологическая больница»</a:t>
            </a:r>
            <a:r>
              <a:rPr b="1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- о выявлении несовершеннолетних, нуждающихся в обследовании, наблюдении или лечении в связи с употреблением алкогольной и спиртосодержащей продукции, пива и напитков, изготавливаемых на его основе, наркотических средств, психотропных или одурманивающих веществ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3510000"/>
                <a:tab algn="l" pos="657072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1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департамент образования Администрации города Сургута </a:t>
            </a:r>
            <a:r>
              <a:rPr b="1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-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выявлении несовершеннолетних, нуждающихся в помощи государства в связи с прекращением по неуважительным причинам занятий в образовательных организациях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3510000"/>
                <a:tab algn="l" pos="657072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1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управление физической культуры и спорта, комитет по культуре и туризму, отдел молодежной политики Администрации города Сургута </a:t>
            </a:r>
            <a:r>
              <a:rPr b="1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-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выявлении несовершеннолетних, находящихся в социально опасном положении, иной трудной жизненной ситуации, и нуждающихся в этой связи в оказании помощи в организации отдыха, досуга, занятости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3510000"/>
                <a:tab algn="l" pos="657072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1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казенное учреждение Ханты-Мансийского автономного округа - Югры «Сургутский центр занятости населения» </a:t>
            </a:r>
            <a:r>
              <a:rPr b="1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- о выявлении несовершеннолетних, находящихся в социально опасном положении, иной трудной жизненной ситуации, и нуждающихся в этой связи в профессиональной ориентации, профессиональном обучении и содействии </a:t>
            </a:r>
            <a:r>
              <a:rPr b="1" lang="ru-RU" sz="1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 трудовом устройстве.</a:t>
            </a:r>
            <a:endParaRPr b="0" lang="en-US" sz="1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3510000"/>
                <a:tab algn="l" pos="657072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3510000"/>
                <a:tab algn="l" pos="657072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10720" y="221760"/>
            <a:ext cx="6348600" cy="82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5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Форма информирования о чрезвычайном происшествии с несовершеннолетним</a:t>
            </a:r>
            <a:endParaRPr b="0" lang="en-US" sz="25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158760" y="1122480"/>
            <a:ext cx="7499520" cy="52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700" spc="-1" strike="noStrike">
                <a:solidFill>
                  <a:srgbClr val="c00000"/>
                </a:solidFill>
                <a:latin typeface="Times New Roman"/>
                <a:ea typeface="Angsana New"/>
              </a:rPr>
              <a:t>Сообщение по предлагаемой форме направляется в адрес председателя комиссии незамедлительно с момента выявления (установления) факта чрезвычайного происшествия, копия - в отдел по организации работы  комиссии по делам несовершеннолетних, защите их прав Администрации города (в том числе в формате word), в случае: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80000"/>
              </a:lnSpc>
              <a:spcBef>
                <a:spcPts val="1001"/>
              </a:spcBef>
              <a:buClr>
                <a:srgbClr val="549e39"/>
              </a:buClr>
              <a:buSzPct val="80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700" spc="-1" strike="noStrike">
                <a:solidFill>
                  <a:srgbClr val="c00000"/>
                </a:solidFill>
                <a:latin typeface="Times New Roman"/>
                <a:ea typeface="Angsana New"/>
              </a:rPr>
              <a:t>гибели ребенка; 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80000"/>
              </a:lnSpc>
              <a:spcBef>
                <a:spcPts val="1001"/>
              </a:spcBef>
              <a:buClr>
                <a:srgbClr val="549e39"/>
              </a:buClr>
              <a:buSzPct val="80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700" spc="-1" strike="noStrike">
                <a:solidFill>
                  <a:srgbClr val="c00000"/>
                </a:solidFill>
                <a:latin typeface="Times New Roman"/>
                <a:ea typeface="Angsana New"/>
              </a:rPr>
              <a:t>совершения действий против жизни и здоровья несовершеннолетних, в том числе факты жестокого обращения со стороны родителей (законных представителей), должностных лиц и иных взрослых лиц,  а также в случае принятия решения о помещении несовершеннолетних, подвергшихся жёсткому обращению,                                в учреждения системы профилактики безнадзорности                                    и правонарушений несовершеннолетних; 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80000"/>
              </a:lnSpc>
              <a:spcBef>
                <a:spcPts val="1001"/>
              </a:spcBef>
              <a:buClr>
                <a:srgbClr val="549e39"/>
              </a:buClr>
              <a:buSzPct val="80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700" spc="-1" strike="noStrike">
                <a:solidFill>
                  <a:srgbClr val="c00000"/>
                </a:solidFill>
                <a:latin typeface="Times New Roman"/>
                <a:ea typeface="Angsana New"/>
              </a:rPr>
              <a:t>совершения действий против половой неприкосновенности и половой свободы несовершеннолетних;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80000"/>
              </a:lnSpc>
              <a:spcBef>
                <a:spcPts val="1001"/>
              </a:spcBef>
              <a:buClr>
                <a:srgbClr val="549e39"/>
              </a:buClr>
              <a:buSzPct val="80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700" spc="-1" strike="noStrike">
                <a:solidFill>
                  <a:srgbClr val="c00000"/>
                </a:solidFill>
                <a:latin typeface="Times New Roman"/>
                <a:ea typeface="Angsana New"/>
              </a:rPr>
              <a:t>суицидальных попыток (завершенных, незавершенных);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80000"/>
              </a:lnSpc>
              <a:spcBef>
                <a:spcPts val="1001"/>
              </a:spcBef>
              <a:buClr>
                <a:srgbClr val="549e39"/>
              </a:buClr>
              <a:buSzPct val="80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700" spc="-1" strike="noStrike">
                <a:solidFill>
                  <a:srgbClr val="c00000"/>
                </a:solidFill>
                <a:latin typeface="Times New Roman"/>
                <a:ea typeface="Angsana New"/>
              </a:rPr>
              <a:t>травм, увечья, в результате которых несовершеннолетний получил тяжкий либо средний вред здоровью.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571680" y="1633680"/>
            <a:ext cx="8370720" cy="43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0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Органам и учреждениям системы профилактики безнадзорности и правонарушений несовершеннолетних города в соответствии с частью 2 статьи 9 Федерального Закона № 120-ФЗ от 24.06.1999 «Об основах системы профилактики безнадзорности и правонарушений несовершеннолетних» обеспечить незамедлительное  информирование председателя комиссии о выявленных (установленных) фактах чрезвычайного происшествия с несовершеннолетними по форме согласно приложению 2 к постановлению комиссии по делам несовершеннолетних и защите их прав при Администрации города Сургута от 23.01.2018 № 1-1-1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50880" y="180720"/>
            <a:ext cx="7657920" cy="104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Алгоритм (порядок)</a:t>
            </a:r>
            <a:br>
              <a:rPr sz="1400"/>
            </a:br>
            <a:r>
              <a:rPr b="1" i="1" lang="ru-RU" sz="1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взаимодействия   при выявлении случаев чрезвычайного происшествия </a:t>
            </a:r>
            <a:br>
              <a:rPr sz="1400"/>
            </a:br>
            <a:r>
              <a:rPr b="1" i="1" lang="ru-RU" sz="1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        с несовершеннолетними (далее-ЧП) в муниципальном образовании городской округ город Сургут</a:t>
            </a:r>
            <a:br>
              <a:rPr sz="1400"/>
            </a:br>
            <a:endParaRPr b="0" lang="en-US" sz="14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35" name="Схема 36" descr=""/>
          <p:cNvPicPr/>
          <p:nvPr/>
        </p:nvPicPr>
        <p:blipFill>
          <a:blip r:embed="rId1"/>
          <a:stretch/>
        </p:blipFill>
        <p:spPr>
          <a:xfrm>
            <a:off x="2414520" y="1268280"/>
            <a:ext cx="2138400" cy="1067040"/>
          </a:xfrm>
          <a:prstGeom prst="rect">
            <a:avLst/>
          </a:prstGeom>
          <a:ln w="0">
            <a:noFill/>
          </a:ln>
        </p:spPr>
      </p:pic>
      <p:pic>
        <p:nvPicPr>
          <p:cNvPr id="236" name="Объект 35" descr=""/>
          <p:cNvPicPr/>
          <p:nvPr/>
        </p:nvPicPr>
        <p:blipFill>
          <a:blip r:embed="rId2"/>
          <a:stretch/>
        </p:blipFill>
        <p:spPr>
          <a:xfrm>
            <a:off x="304920" y="1262160"/>
            <a:ext cx="2127240" cy="1511280"/>
          </a:xfrm>
          <a:prstGeom prst="rect">
            <a:avLst/>
          </a:prstGeom>
          <a:ln w="0">
            <a:noFill/>
          </a:ln>
        </p:spPr>
      </p:pic>
      <p:pic>
        <p:nvPicPr>
          <p:cNvPr id="237" name="Рисунок 21" descr=""/>
          <p:cNvPicPr/>
          <p:nvPr/>
        </p:nvPicPr>
        <p:blipFill>
          <a:blip r:embed="rId3"/>
          <a:stretch/>
        </p:blipFill>
        <p:spPr>
          <a:xfrm>
            <a:off x="3137040" y="3139920"/>
            <a:ext cx="2869920" cy="578160"/>
          </a:xfrm>
          <a:prstGeom prst="rect">
            <a:avLst/>
          </a:prstGeom>
          <a:ln w="0">
            <a:noFill/>
          </a:ln>
        </p:spPr>
      </p:pic>
      <p:pic>
        <p:nvPicPr>
          <p:cNvPr id="238" name="Схема 37" descr=""/>
          <p:cNvPicPr/>
          <p:nvPr/>
        </p:nvPicPr>
        <p:blipFill>
          <a:blip r:embed="rId4"/>
          <a:stretch/>
        </p:blipFill>
        <p:spPr>
          <a:xfrm>
            <a:off x="4565520" y="1255680"/>
            <a:ext cx="2298960" cy="2090880"/>
          </a:xfrm>
          <a:prstGeom prst="rect">
            <a:avLst/>
          </a:prstGeom>
          <a:ln w="0">
            <a:noFill/>
          </a:ln>
        </p:spPr>
      </p:pic>
      <p:pic>
        <p:nvPicPr>
          <p:cNvPr id="239" name="Схема 38" descr=""/>
          <p:cNvPicPr/>
          <p:nvPr/>
        </p:nvPicPr>
        <p:blipFill>
          <a:blip r:embed="rId5"/>
          <a:stretch/>
        </p:blipFill>
        <p:spPr>
          <a:xfrm>
            <a:off x="6877080" y="1298520"/>
            <a:ext cx="2217600" cy="1249560"/>
          </a:xfrm>
          <a:prstGeom prst="rect">
            <a:avLst/>
          </a:prstGeom>
          <a:ln w="0">
            <a:noFill/>
          </a:ln>
        </p:spPr>
      </p:pic>
      <p:pic>
        <p:nvPicPr>
          <p:cNvPr id="240" name="Схема 48" descr=""/>
          <p:cNvPicPr/>
          <p:nvPr/>
        </p:nvPicPr>
        <p:blipFill>
          <a:blip r:embed="rId6"/>
          <a:stretch/>
        </p:blipFill>
        <p:spPr>
          <a:xfrm>
            <a:off x="2646360" y="3060720"/>
            <a:ext cx="6394320" cy="609480"/>
          </a:xfrm>
          <a:prstGeom prst="rect">
            <a:avLst/>
          </a:prstGeom>
          <a:ln w="0">
            <a:noFill/>
          </a:ln>
        </p:spPr>
      </p:pic>
      <p:pic>
        <p:nvPicPr>
          <p:cNvPr id="241" name="Схема 47" descr=""/>
          <p:cNvPicPr/>
          <p:nvPr/>
        </p:nvPicPr>
        <p:blipFill>
          <a:blip r:embed="rId7"/>
          <a:stretch/>
        </p:blipFill>
        <p:spPr>
          <a:xfrm>
            <a:off x="304920" y="2766960"/>
            <a:ext cx="2262240" cy="1085760"/>
          </a:xfrm>
          <a:prstGeom prst="rect">
            <a:avLst/>
          </a:prstGeom>
          <a:ln w="0">
            <a:noFill/>
          </a:ln>
        </p:spPr>
      </p:pic>
      <p:pic>
        <p:nvPicPr>
          <p:cNvPr id="242" name="Схема 49" descr=""/>
          <p:cNvPicPr/>
          <p:nvPr/>
        </p:nvPicPr>
        <p:blipFill>
          <a:blip r:embed="rId8"/>
          <a:stretch/>
        </p:blipFill>
        <p:spPr>
          <a:xfrm>
            <a:off x="4846680" y="3736800"/>
            <a:ext cx="4164120" cy="712800"/>
          </a:xfrm>
          <a:prstGeom prst="rect">
            <a:avLst/>
          </a:prstGeom>
          <a:ln w="0">
            <a:noFill/>
          </a:ln>
        </p:spPr>
      </p:pic>
      <p:pic>
        <p:nvPicPr>
          <p:cNvPr id="243" name="Схема 50" descr=""/>
          <p:cNvPicPr/>
          <p:nvPr/>
        </p:nvPicPr>
        <p:blipFill>
          <a:blip r:embed="rId9"/>
          <a:stretch/>
        </p:blipFill>
        <p:spPr>
          <a:xfrm>
            <a:off x="281160" y="4095720"/>
            <a:ext cx="3620880" cy="2701800"/>
          </a:xfrm>
          <a:prstGeom prst="rect">
            <a:avLst/>
          </a:prstGeom>
          <a:ln w="0">
            <a:noFill/>
          </a:ln>
        </p:spPr>
      </p:pic>
      <p:pic>
        <p:nvPicPr>
          <p:cNvPr id="244" name="Схема 51" descr=""/>
          <p:cNvPicPr/>
          <p:nvPr/>
        </p:nvPicPr>
        <p:blipFill>
          <a:blip r:embed="rId10"/>
          <a:stretch/>
        </p:blipFill>
        <p:spPr>
          <a:xfrm>
            <a:off x="3925800" y="4522680"/>
            <a:ext cx="5168880" cy="2457720"/>
          </a:xfrm>
          <a:prstGeom prst="rect">
            <a:avLst/>
          </a:prstGeom>
          <a:ln w="0">
            <a:noFill/>
          </a:ln>
        </p:spPr>
      </p:pic>
      <p:sp>
        <p:nvSpPr>
          <p:cNvPr id="245" name="Стрелка вниз 52"/>
          <p:cNvSpPr/>
          <p:nvPr/>
        </p:nvSpPr>
        <p:spPr>
          <a:xfrm>
            <a:off x="3497400" y="2327400"/>
            <a:ext cx="223560" cy="741240"/>
          </a:xfrm>
          <a:prstGeom prst="downArrow">
            <a:avLst>
              <a:gd name="adj1" fmla="val 50000"/>
              <a:gd name="adj2" fmla="val 50057"/>
            </a:avLst>
          </a:prstGeom>
          <a:solidFill>
            <a:srgbClr val="90c226"/>
          </a:solidFill>
          <a:ln cap="rnd" w="1908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Стрелка вниз 53"/>
          <p:cNvSpPr/>
          <p:nvPr/>
        </p:nvSpPr>
        <p:spPr>
          <a:xfrm>
            <a:off x="5753160" y="3084480"/>
            <a:ext cx="253800" cy="1652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90c226"/>
          </a:solidFill>
          <a:ln cap="rnd" w="1908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Стрелка вниз 54"/>
          <p:cNvSpPr/>
          <p:nvPr/>
        </p:nvSpPr>
        <p:spPr>
          <a:xfrm>
            <a:off x="7954920" y="2549520"/>
            <a:ext cx="206280" cy="519120"/>
          </a:xfrm>
          <a:prstGeom prst="downArrow">
            <a:avLst>
              <a:gd name="adj1" fmla="val 50000"/>
              <a:gd name="adj2" fmla="val 50028"/>
            </a:avLst>
          </a:prstGeom>
          <a:solidFill>
            <a:srgbClr val="90c226"/>
          </a:solidFill>
          <a:ln cap="rnd" w="1908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Стрелка вниз 55"/>
          <p:cNvSpPr/>
          <p:nvPr/>
        </p:nvSpPr>
        <p:spPr>
          <a:xfrm>
            <a:off x="6775560" y="3656160"/>
            <a:ext cx="207720" cy="1951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90c226"/>
          </a:solidFill>
          <a:ln cap="rnd" w="1908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Стрелка вниз 56"/>
          <p:cNvSpPr/>
          <p:nvPr/>
        </p:nvSpPr>
        <p:spPr>
          <a:xfrm>
            <a:off x="982800" y="2579760"/>
            <a:ext cx="163440" cy="214200"/>
          </a:xfrm>
          <a:prstGeom prst="downArrow">
            <a:avLst>
              <a:gd name="adj1" fmla="val 50000"/>
              <a:gd name="adj2" fmla="val 49996"/>
            </a:avLst>
          </a:prstGeom>
          <a:solidFill>
            <a:srgbClr val="90c226"/>
          </a:solidFill>
          <a:ln cap="rnd" w="1908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Стрелка вниз 57"/>
          <p:cNvSpPr/>
          <p:nvPr/>
        </p:nvSpPr>
        <p:spPr>
          <a:xfrm>
            <a:off x="1055520" y="3851280"/>
            <a:ext cx="125640" cy="331920"/>
          </a:xfrm>
          <a:prstGeom prst="downArrow">
            <a:avLst>
              <a:gd name="adj1" fmla="val 50000"/>
              <a:gd name="adj2" fmla="val 49926"/>
            </a:avLst>
          </a:prstGeom>
          <a:solidFill>
            <a:srgbClr val="90c226"/>
          </a:solidFill>
          <a:ln cap="rnd" w="1908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Стрелка вниз 58"/>
          <p:cNvSpPr/>
          <p:nvPr/>
        </p:nvSpPr>
        <p:spPr>
          <a:xfrm rot="17948400">
            <a:off x="3181320" y="3161880"/>
            <a:ext cx="214200" cy="1887480"/>
          </a:xfrm>
          <a:prstGeom prst="downArrow">
            <a:avLst>
              <a:gd name="adj1" fmla="val 50000"/>
              <a:gd name="adj2" fmla="val 50015"/>
            </a:avLst>
          </a:prstGeom>
          <a:solidFill>
            <a:srgbClr val="90c226"/>
          </a:solidFill>
          <a:ln cap="rnd" w="1908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Стрелка вниз 59"/>
          <p:cNvSpPr/>
          <p:nvPr/>
        </p:nvSpPr>
        <p:spPr>
          <a:xfrm rot="7341600">
            <a:off x="2700720" y="2167560"/>
            <a:ext cx="209880" cy="1185840"/>
          </a:xfrm>
          <a:prstGeom prst="downArrow">
            <a:avLst>
              <a:gd name="adj1" fmla="val 50000"/>
              <a:gd name="adj2" fmla="val 49909"/>
            </a:avLst>
          </a:prstGeom>
          <a:solidFill>
            <a:srgbClr val="90c226"/>
          </a:solidFill>
          <a:ln cap="rnd" w="1908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Рисунок 4" descr=""/>
          <p:cNvPicPr/>
          <p:nvPr/>
        </p:nvPicPr>
        <p:blipFill>
          <a:blip r:embed="rId1"/>
          <a:stretch/>
        </p:blipFill>
        <p:spPr>
          <a:xfrm>
            <a:off x="343080" y="193680"/>
            <a:ext cx="8716680" cy="60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Объект 1" descr=""/>
          <p:cNvPicPr/>
          <p:nvPr/>
        </p:nvPicPr>
        <p:blipFill>
          <a:blip r:embed="rId1"/>
          <a:stretch/>
        </p:blipFill>
        <p:spPr>
          <a:xfrm>
            <a:off x="542880" y="1835280"/>
            <a:ext cx="8551800" cy="4906800"/>
          </a:xfrm>
          <a:prstGeom prst="rect">
            <a:avLst/>
          </a:prstGeom>
          <a:ln w="0">
            <a:noFill/>
          </a:ln>
        </p:spPr>
      </p:pic>
      <p:sp>
        <p:nvSpPr>
          <p:cNvPr id="255" name="Полилиния 5"/>
          <p:cNvSpPr/>
          <p:nvPr/>
        </p:nvSpPr>
        <p:spPr>
          <a:xfrm>
            <a:off x="2057400" y="131760"/>
            <a:ext cx="6919920" cy="1855800"/>
          </a:xfrm>
          <a:prstGeom prst="pie">
            <a:avLst/>
          </a:prstGeom>
          <a:solidFill>
            <a:srgbClr val="f5c2a3"/>
          </a:solidFill>
          <a:ln cap="rnd"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50480" rIns="150480" tIns="150480" bIns="150480" anchor="ctr">
            <a:noAutofit/>
          </a:bodyPr>
          <a:p>
            <a:pPr algn="ctr">
              <a:lnSpc>
                <a:spcPct val="90000"/>
              </a:lnSpc>
              <a:spcAft>
                <a:spcPts val="876"/>
              </a:spcAft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ми критериями отнесения ребенка к категории детей, находящихся в трудной жизненной ситуации, при наличии проблем в обеспечении надлежащих условий воспитания и проживания, указанных выше групп детей, являютс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4T06:00:31Z</dcterms:created>
  <dc:creator>Бовсун Ольга Владимировна</dc:creator>
  <dc:description/>
  <dc:language>en-US</dc:language>
  <cp:lastModifiedBy>Лабазанова Валентина Николаевна</cp:lastModifiedBy>
  <cp:lastPrinted>2019-04-23T06:00:57Z</cp:lastPrinted>
  <dcterms:modified xsi:type="dcterms:W3CDTF">2021-03-12T07:05:08Z</dcterms:modified>
  <cp:revision>551</cp:revision>
  <dc:subject/>
  <dc:title>Слайд 1</dc:title>
</cp:coreProperties>
</file>