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1DA4-76A7-49B2-B7ED-963AFA4587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B38F-6A27-4B93-A732-BAF846CB7C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4637-0990-430B-A6CE-BE6D1918C7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94F5-426F-4AF3-856E-46B6E50104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A6D6-6EFB-441D-A0AE-3ECD8C79BE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9B4-5BA1-45D7-B2C8-83C0C1AE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845-7766-4BCE-8FA1-09150175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C58-6F73-45B8-AC07-D3D1E998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0C0-F3C0-4070-A1B0-9B0C6DCC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5F82-2E50-4D2E-B005-854B55A0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5C37-C9B3-42EA-AF5F-BD755C0D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966E-D2BC-4C85-9B11-D2D1E072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6E10-62EA-41E7-A90F-BB4C7D32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1B21-1B91-4936-BE1D-C98C6295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11DB-18DF-4106-AC18-F25FB016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397F-CAD8-418D-8EE3-1A92046D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17D-6702-4D7E-B143-5D115B6B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A15B-1E28-46A5-8DE8-9CB73CD8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E37C-53DF-4406-B261-AEA8FD74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EF56-D9C8-4597-A425-A570A202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F9C3-BB77-431C-9B94-FA15C7F8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C21D-A497-4C9D-A488-465F9735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82918-14B4-437A-B0FA-A69FE57F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3401E-7199-49F5-8CB2-4C364355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7837B-F28E-4869-8F15-9C7121BA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F377F-13D6-4494-8ADD-1804813E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13AF-A5BE-45D9-B182-41FBA68C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D2B-86B3-4731-B15D-7D4CA2A3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4FD7E-35EF-43F6-9567-E646A234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7A1C0-2D60-4690-B62A-B9957321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6AE6C-FB40-4282-977E-8ACD633C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B0D6D-0C22-43C3-A332-A59027E1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817D0-FC45-42B4-B845-9317EDBC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F9F88-BDB8-48EF-9D58-EE5F3870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7755F-9F1F-4E21-A5B3-6B14DCD3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24706-1A0B-4E7A-B315-183AED47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42ED9-EDA5-47B9-B7FB-1FCB7428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49A09-F1FD-4F76-B8EE-EDA2FAE3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008-AFDD-4A0C-AB4B-FDC5E884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6B599-836E-491E-8B55-2371BB8E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8CA50-D0C0-4D60-B3EB-5620D904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6B4E7-2942-41D1-B360-8E4265C1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5A875-04ED-4515-B7D3-AC237106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67F4E-B090-4EF8-8B48-4217AE33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B8F9D-38E5-499D-B501-A7F9772B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C6BC1-1C95-43B8-8553-176563A1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77E8D-359A-4A1C-B9DC-58C15C9B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C9C3A-4B11-4CE5-9932-40216FA1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CFC-4177-404B-B324-D7680728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DBB-B510-4670-A9C2-7E47A891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63BC-42E1-4A80-8888-9995DF5B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A72-E952-4723-AD67-C57AC093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E10-590A-417F-8634-A2AC96E5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AF73-4673-44C0-B1DD-6213A1563EF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FE9D-FD2E-473E-A4A7-6D2343AF96E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BF90-FCD0-4F8C-A603-0776A0B1723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0B65-082F-42D9-BF7A-26358B4B3FF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5160" y="1419120"/>
            <a:ext cx="7945560" cy="45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Постоянно действующий семинар для родителей, специалистов учреждений, организаций города по решению остро возникающих вопросов в сфере профилактики безнадзорности, правонарушений, антиобщественных действий несовершеннолетних, защите их прав» </a:t>
            </a:r>
            <a:br>
              <a:rPr sz="28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21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04880" y="22536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803680" y="4381560"/>
            <a:ext cx="6197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1" descr=""/>
          <p:cNvPicPr/>
          <p:nvPr/>
        </p:nvPicPr>
        <p:blipFill>
          <a:blip r:embed="rId1"/>
          <a:stretch/>
        </p:blipFill>
        <p:spPr>
          <a:xfrm>
            <a:off x="1384200" y="73080"/>
            <a:ext cx="7570800" cy="3408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1001880" y="3736800"/>
            <a:ext cx="79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личие оснований, предусмотренных ч.1 ст.5 Закона № 120-Ф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хождение несовершеннолетнего в обстановке, представляющей опасность (угрозу) для его жизни и (или) здоровья в связи с отсутствием контроля за его поведением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, либо в связи с отсутствием у него места жительства и (или) места преб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1301760" y="1038240"/>
            <a:ext cx="736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в течение календарного года повторного самовольного ухода из семьи, учреждения системы профилакт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суицидальной попы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озбуждение уголовного дела в отношении родителей либо одного                                       из родителей (законных представителей) несовершеннолетнего в связи с совершением в отношении него умышленного преступ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родителями, иными законными представителями действий, свидетельствующих о жестоком обращении с несовершеннолетним, выражающееся, в частности, в осуществлении физического или психического насилия над ними, в покушении на их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лечение родителей либо одного из родителей (законных представителей) несовершеннолетних к административной ответственности в соответствии  с ч.1 ст.5.35, ч.1 ст.5.35.1,                   ст. 5.61, ст.6.1.1, ч.2 ст.6.10, ч.2 ст.6.23 КоАП РФ, при наличии фактов систематического нарушения прав и законных интересов ребенка, в следствии длительного непрекращающегося невыполнения или ненадлежащего выполнения обязанностей по воспитанию, содерж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6"/>
          <p:cNvSpPr/>
          <p:nvPr/>
        </p:nvSpPr>
        <p:spPr>
          <a:xfrm>
            <a:off x="1284120" y="1197000"/>
            <a:ext cx="736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совершение родителями, законными представителями несовершеннолетнего действий, по вовлечению последних                                  в противоправные или антиобщественные действ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тическое употребление родителями либо одним из родителей или иными законными представителями, либо одним из законных представителей несовершеннолетних наркотических средств, психотропных и одурманивающих веществ, а также алкогольной и спиртосодержаще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ные обстоятельства, в случае необходимости предупреждения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 выявлении несовершеннолетнего, права и законные интересы которого нарушены, находящегося в социально опасном положении, иной трудной жизненной ситуации, направляется в комиссию, управление по опеке и попечительству Администрации города, при необходимости в  соответствующие органы и учреждения системы профилактики по форме согласно приложению 3 к Регламент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незамедлительно (в течение суток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росы в органы и учреждения системы профилактики, иные заинтересованные организации с целью подготовки информации на заседание комиссии, для принятия коллегиального решения о целесообразности признания  несовершеннолетнего и (или) семьи, находящимся в социально опасном положении, и проведении индивидуальной профилактической работы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в субъекты профилактики не позднее 3 рабочих дн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рганов и учреждений системы профилактики о ребенке и членах его семьи по запросам  управления по опеке и попечительству  и комисс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 не позднее 3 рабочих дней с даты поступления запро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9520" y="1596960"/>
            <a:ext cx="83790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, организует обследование условий проживания выявленного ребенка и его семьи с целью оценки степени риска нарушения прав и законных интересов ребенка и готовит акт обслед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и 3 дней с даты поступления сооб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итогам обследования условий жизни ребенка и его семьи управление  по опеке  и попечительству готовит заключение для организации индивидуальной профилактической работы в отношении ребенка и его семь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готовится в течении 7 рабочих дней с даты поступления сведений о ребён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ts val="1562"/>
              </a:lnSpc>
              <a:spcBef>
                <a:spcPts val="26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инятия решений по фактам нарушения прав детей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15 календарных дней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дня получения информации                 о выявлении несовершеннолетнего и(или) членов его семьи, находящихся                                   в социально опасном положении, и иной трудной жизненной ситуации, заключения органа опеки, документов, предусмотренных ст. 6 Закона № 120-ФЗ, коллегиально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имает постановление об организации индивидуальной профилактической работы и (или) социального сопровождения семьи в отношении несовершеннолетнего и членов его семьи, признании несовершеннолетнего и (или) членов его семьи, находящимся в социально опасном поло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убъекты системы профилактики – участников индивидуальной профилактической работ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перечень неотложных мероприятий с несовершеннолетними                           и (или) членами их семей, находящимися в социально опасном положении, сформированных с учётом предложений (в пределах компетенции) субъектов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 учреждения системы профилактики, определённые постановлением комиссии участниками реализации ИПР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в адрес комиссии и органов, учреждений системы профилактики, определенных постановлением комиссии участниками реализации ИПР, согласно приложению 7 к Регламенту  (данные исполнителя -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О (полностью), наименования должности, контактного телефон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перечень мероприяти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е 10 рабочих дней, со дня получения копии постановления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участника межведомственной рабочей группы в Отдел (каб.1, ул. Магистральная, 22) для выработки межведомственной ИП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и, указанные в постановлениях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ствуют в определении ответственного исполнителя за подготовку ИПР и  срока предоставления ИПР в адрес Отдел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 заседании межведомственной рабочей группы, дата, место и время проведения  которой указывается в постановлении об организации ИП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30 дней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дня принятия постановления о признании несовершеннолетнего и (или) членов его семьи, находящимся в социально опасном положении, постановлением очередного заседания комисс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ИПР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ложение 11 к Регламенту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начает ответственного исполнителя (учреждение (орган)                                     за ознакомление несовершеннолетних и членов их семьи с ИПР,                             их персональное сопровождение, обобщение результатов межведомственной работы, подготовку аналитической информации о ходе исполнения ИПР     (не реже 1 раза в три месяца), а также подготовку заключения                                   по результатам реализации индивидуальной профилактической работы для направления в комисси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роки предоставления итоговой информации в адрес                          ответственного исполнителя  и заключения по результатам реализации ИПР в адрес отдела по организации работы комиссии по делам несовершеннолетних, защите 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роки 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84240" y="1193400"/>
            <a:ext cx="80186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ая профилактическая работа с несовершеннолетним                            и (или)членами его семьи организуется на период, необходимый                                 на реализацию мероприятий, направленных на устранение причин                            и условий, обусловивших положение несовершеннолетнего                                               и (или) семьи как социально опасно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менее 6 месяце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эффективности реализации ИПР осуществляется по мере необходимости, но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реже одного раза в квартал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седании комиссии, по результатам которого выносится одно из следующих решений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несении изменений и дополнений в ИПР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прекращении индивидуальной профилактической работы                                     и исключении несовершеннолетнего и (или) членов его семьи из Реестра,                    с указанием оснований исклю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сборе документов для направления в судебные органы искового заявления  о лишении либо ограничении родительск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 прекращении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ую информацию исполнители реализации ИПР направляют                   в адрес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тветственного исполнителя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электронном виде                                             в формате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d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df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 подписью руководител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, утверждённый постановлением комисс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ми документами явля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ий отчёт о реализации мероприятий ИПР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 мотивированными предложениям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одолжении либо завершения ИПР в соответствии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ложением12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ламент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ьный акт обследования условий жизни несовершеннолетнего и его семьи (для УМВД России по г. Сургута и Управления по опеке и попечительству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1415880"/>
            <a:ext cx="8273880" cy="313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исполнении требований Регламента межведомственного взаимодействия субъектов системы профилактики безнадзорности                                                  и правонарушений несовершеннолетних и иных органов и организаций                                  в муниципальном образовании городской округ город Сургут при выявлении, учёте, организации и проведении индивидуальной профилактической работы  с несовершеннолетними и (или) семьями, находящимися в социально опасном положении и иной трудной жизненной ситуации (утверждённого постановлением комиссии от  05.12.2019  № 19-5-56 (с изменениями от 26.02.2021 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тановление № 5-3-1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04880" y="7452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622600" y="5873760"/>
            <a:ext cx="312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685960" y="4551480"/>
            <a:ext cx="6292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0000"/>
          </a:bodyPr>
          <a:p>
            <a:pPr marL="24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азанова Валентина Николаевна – заместитель начальника отдела по организации работы комиссии по делам  несовершеннолетних, защите их прав, член комиссии по делам несовершеннолетних и защите их прав при Администрации города Сургу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594600" y="5969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арта 202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: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ую записку с общим анализом достигнутых результатов профилактической работы с семьей,                           с оценкой эффективности/не эффективности проведен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об устранении (сохранении) социально опасного опасного положения несовершеннолетнего и (или) членов его семь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о проведении дальнейшей профилактической работы с несовершеннолетним                      и членами его семь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у для утверждения на новый период, с предложением о продолжении ИП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3520" y="315720"/>
            <a:ext cx="731520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0880" y="1068120"/>
            <a:ext cx="79470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необходимости продолжения проведения индивидуальной профилактической работы (в этом случае предоставляя данные должностного лица, ответственного за проведение индивидуальной профилактической работы  с семьей, с указанием ФИО (полностью), наименования должности, контактного телефона, перечень планируемых мероприятий в рамках ИПР, необходимости включения нового исполнителям, не определенного постановлением комиссии ран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 завершении индивидуальной профилактической работы                            с указанием оснований ( положительная реабилитация, и др.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об исключении из числа участников реализации ИПР (с указанием оснований для исключения, это может 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нение органом или учреждением мероприятий ИПР с положительным результатом , если повторное их проведение не требуетс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каз родителей (иных законных представителей) от проведения индивидуальной профилактической работы (п.5.5.2. настоящего Регламента), иное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ключительный этап реализации ИПР 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53680" y="1193760"/>
            <a:ext cx="8448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ственный исполнитель на основании представленных аналитических отчётов готовит заключение и направляет его в адрес заместителя председателя комиссии (начальника Отдела) и на адрес электронной почт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onstantinova_ol@admsurgut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тветственность за нарушение сроков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факта неисполнения в указанные сроки органами и учреждениями системы постановления об организациии проведении индивидуальной профилактической работы                                 с несовершеннолетним и (или)членами их семей, находящимися                   в социально опасном положении, комиссия инициирует перед руководителями вопрос о привлечении виновных лиц                                     к дисциплинарной ответствен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признаков административного правонарушения, предусмотренного ст.6 Закона Ханты-Мансийского автономного округа – Югры от 11.06.2010 № 102-оз «Об административных правонарушениях» комиссия вправе направить соответствующие материалы в прокуратуру горо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44640" y="240840"/>
            <a:ext cx="7789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3" name="Группа 5" descr=""/>
          <p:cNvPicPr/>
          <p:nvPr/>
        </p:nvPicPr>
        <p:blipFill>
          <a:blip r:embed="rId1"/>
          <a:stretch/>
        </p:blipFill>
        <p:spPr>
          <a:xfrm>
            <a:off x="414360" y="865080"/>
            <a:ext cx="85215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Группа 5" descr=""/>
          <p:cNvPicPr/>
          <p:nvPr/>
        </p:nvPicPr>
        <p:blipFill>
          <a:blip r:embed="rId1"/>
          <a:stretch/>
        </p:blipFill>
        <p:spPr>
          <a:xfrm>
            <a:off x="371520" y="1231920"/>
            <a:ext cx="8778960" cy="557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Группа 5" descr=""/>
          <p:cNvPicPr/>
          <p:nvPr/>
        </p:nvPicPr>
        <p:blipFill>
          <a:blip r:embed="rId1"/>
          <a:stretch/>
        </p:blipFill>
        <p:spPr>
          <a:xfrm>
            <a:off x="463680" y="1517760"/>
            <a:ext cx="8686800" cy="529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47360" y="1290240"/>
            <a:ext cx="81234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лиц, в отношении которых проводится индивидуальная профилактическая работа, включенных в реестр, находящихся в СО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квартально в срок не позднее 10 числа следующего                                                  за отчётным периодом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данных об исполнении постановлений комиссии в рамках реализации ИПР с несовершеннолетними и членами их семей                             за прошедший меся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Отдела по организации работы комиссии по делам несовершеннолетних, защите их пра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озднее 10 числа каждого месяц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ководители органов и учреждений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ечение 3 рабочих дней с момента получения запроса о сверк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1247760" y="228600"/>
            <a:ext cx="62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ые органами системы профилактики сверки в рамках Регл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3800" y="104400"/>
            <a:ext cx="66466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омера телефонов служб, занимающихся защитой прав несовершеннолетних: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00280" y="1170000"/>
            <a:ext cx="80532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по делам несовершеннолетних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щите их прав при Администрации города Сургута                                  (Детская общественная приемная)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363859,  363858,  351811,  35509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522857,  522833,  25285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куратура города Сургут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3462) 219901,  219955,  219945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телефон вызова экстренных служб ( полиции, пожарной охраны, скорой помощи и службы спасени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2 (круглосуточно, с любого телефона бесплат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общероссийский номер Детского телефона довер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-800-2000-122 ( бесплатно, анонимно, круглосуточ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50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11280" y="2521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dmsurgut.ru/rubric/2386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Reglament-mezhvedomstvennogo-vzaimodeystviya-sub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83880" y="11998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СЫЛКА НА РЕГЛАМЕН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0400" y="49320"/>
            <a:ext cx="74232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заимоинформирования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1840" y="596520"/>
            <a:ext cx="843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явлении случаев, предусмотренных ст.9 Закона № 120-ФЗ, а также Постановлением Правительства                          ХМАО – Югры от 02.09.2009 №232-п, субъекты системы профилактики направляют информацию в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у города Сургут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рушении прав и свобод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иссию по делам несовершеннолетних и защите их прав </a:t>
            </a:r>
            <a:r>
              <a:rPr b="1" lang="ru-RU" sz="1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ных случаях нарушения прав несовершеннолетних на образование, труд, отдых, жилище и других прав, а также о недостатках в деятельности органов и учреждений, препятствующих предупреждению безнадзорности и правонарушений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оставшихся без попечения родителей или иных законных представителей, либо находящихся в обстановке, представляющей угрозу их жизни, здоровью или препятствующей их воспитанию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социальной защиты населения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уждающихся в помощи государства в связи с безнадзорностью или беспризорностью, в связи с самовольным уходом из детских домов, других детских учреждений, совершением неоднократных самовольных уходов, суицидальных попыток, систематическим агрессивным поведением, а также о выявле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,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ящихся в социально опасном положени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ВД России по г. Сургуту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родителей несовершеннолетних или иных их законных представителей и иных лиц, жестоко обращающихся с несовершеннолетними и (или) вовлекающих их в совершение преступления или антиобщественных действий, или совершающих по отношению к ним другие противоправные деяния, а также о несовершеннолетних, совершивших правонарушение или антиобщественные действ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юджетное учреждение Ханты-Мансийского автономного округа – Югры «Сургутская клиническая психоневрологическая больница»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о выявлении несовершеннолетних, нуждающихся в обследовании, наблюдении или лечении в связи с употреблением алкогольной и спиртосодержащей продукции, пива и напитков, изготавливаемых на его основе, наркотических средств, психотропных или одурманивающих вещест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партамент образования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уждающихся в помощи государства в связи с прекращением по неуважительным причинам занятий в образовательных организац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физической культуры и спорта, комитет по культуре и туризму, отдел молодежной политики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аходящихся в социально опасном положении, иной трудной жизненной ситуации, и нуждающихся в этой связи в оказании помощи в организации отдыха, досуга, занят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зенное учреждение Ханты-Мансийского автономного округа - Югры «Сургутский центр занятости населения»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аходящихся в социально опасном положении, иной трудной жизненной ситуации, и нуждающихся в этой связи в профессиональной ориентации, профессиональном обучении и содействии </a:t>
            </a: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удовом устройстве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0720" y="221760"/>
            <a:ext cx="6348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а информирования о чрезвычайном происшествии с несовершеннолетним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8760" y="1122480"/>
            <a:ext cx="7499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общение по предлагаемой форме направляется в адрес председателя комиссии незамедлительно с момента выявления (установления) факта чрезвычайного происшествия, копия - в отдел по организации работы  комиссии по делам несовершеннолетних, защите их прав Администрации города (в том числе в формате word), в случае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гибели ребенк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жизни и здоровья несовершеннолетних, в том числе факты жестокого обращения со стороны родителей (законных представителей), должностных лиц и иных взрослых лиц,  а также в случае принятия решения о помещении несовершеннолетних, подвергшихся жёсткому обращению,                                в учреждения системы профилактики безнадзорности                                    и правонарушений несовершеннолетних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половой неприкосновенности и половой свободы несовершеннолет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уицидальных попыток (завершенных, незавершенных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травм, увечья, в результате которых несовершеннолетний получил тяжкий либо средний вред здоровь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1680" y="1633680"/>
            <a:ext cx="8370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ганам и учреждениям системы профилактики безнадзорности и правонарушений несовершеннолетних города в соответствии с частью 2 статьи 9 Федерального Закона № 120-ФЗ от 24.06.1999 «Об основах системы профилактики безнадзорности и правонарушений несовершеннолетних» обеспечить незамедлительное  информирование председателя комиссии о выявленных (установленных) фактах чрезвычайного происшествия с несовершеннолетними по форме согласно приложению 2 к постановлению комиссии по делам несовершеннолетних и защите их прав при Администрации города Сургута от 23.01.2018 № 1-1-1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657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(порядок)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заимодействия   при выявлении случаев чрезвычайного происшествия 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с несовершеннолетними (далее-ЧП) в муниципальном образовании городской округ город Сургут</a:t>
            </a: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Схема 36" descr=""/>
          <p:cNvPicPr/>
          <p:nvPr/>
        </p:nvPicPr>
        <p:blipFill>
          <a:blip r:embed="rId1"/>
          <a:stretch/>
        </p:blipFill>
        <p:spPr>
          <a:xfrm>
            <a:off x="2414520" y="1268280"/>
            <a:ext cx="2138400" cy="10670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5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212724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1" descr=""/>
          <p:cNvPicPr/>
          <p:nvPr/>
        </p:nvPicPr>
        <p:blipFill>
          <a:blip r:embed="rId3"/>
          <a:stretch/>
        </p:blipFill>
        <p:spPr>
          <a:xfrm>
            <a:off x="3137040" y="3139920"/>
            <a:ext cx="2869920" cy="5781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37" descr=""/>
          <p:cNvPicPr/>
          <p:nvPr/>
        </p:nvPicPr>
        <p:blipFill>
          <a:blip r:embed="rId4"/>
          <a:stretch/>
        </p:blipFill>
        <p:spPr>
          <a:xfrm>
            <a:off x="4565520" y="1255680"/>
            <a:ext cx="2298960" cy="2090880"/>
          </a:xfrm>
          <a:prstGeom prst="rect">
            <a:avLst/>
          </a:prstGeom>
          <a:ln w="0">
            <a:noFill/>
          </a:ln>
        </p:spPr>
      </p:pic>
      <p:pic>
        <p:nvPicPr>
          <p:cNvPr id="239" name="Схема 38" descr=""/>
          <p:cNvPicPr/>
          <p:nvPr/>
        </p:nvPicPr>
        <p:blipFill>
          <a:blip r:embed="rId5"/>
          <a:stretch/>
        </p:blipFill>
        <p:spPr>
          <a:xfrm>
            <a:off x="6877080" y="1298520"/>
            <a:ext cx="2217600" cy="1249560"/>
          </a:xfrm>
          <a:prstGeom prst="rect">
            <a:avLst/>
          </a:prstGeom>
          <a:ln w="0">
            <a:noFill/>
          </a:ln>
        </p:spPr>
      </p:pic>
      <p:pic>
        <p:nvPicPr>
          <p:cNvPr id="240" name="Схема 48" descr=""/>
          <p:cNvPicPr/>
          <p:nvPr/>
        </p:nvPicPr>
        <p:blipFill>
          <a:blip r:embed="rId6"/>
          <a:stretch/>
        </p:blipFill>
        <p:spPr>
          <a:xfrm>
            <a:off x="2646360" y="3060720"/>
            <a:ext cx="63943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47" descr=""/>
          <p:cNvPicPr/>
          <p:nvPr/>
        </p:nvPicPr>
        <p:blipFill>
          <a:blip r:embed="rId7"/>
          <a:stretch/>
        </p:blipFill>
        <p:spPr>
          <a:xfrm>
            <a:off x="304920" y="2766960"/>
            <a:ext cx="2262240" cy="108576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49" descr=""/>
          <p:cNvPicPr/>
          <p:nvPr/>
        </p:nvPicPr>
        <p:blipFill>
          <a:blip r:embed="rId8"/>
          <a:stretch/>
        </p:blipFill>
        <p:spPr>
          <a:xfrm>
            <a:off x="4846680" y="3736800"/>
            <a:ext cx="4164120" cy="712800"/>
          </a:xfrm>
          <a:prstGeom prst="rect">
            <a:avLst/>
          </a:prstGeom>
          <a:ln w="0">
            <a:noFill/>
          </a:ln>
        </p:spPr>
      </p:pic>
      <p:pic>
        <p:nvPicPr>
          <p:cNvPr id="243" name="Схема 50" descr=""/>
          <p:cNvPicPr/>
          <p:nvPr/>
        </p:nvPicPr>
        <p:blipFill>
          <a:blip r:embed="rId9"/>
          <a:stretch/>
        </p:blipFill>
        <p:spPr>
          <a:xfrm>
            <a:off x="281160" y="4095720"/>
            <a:ext cx="3620880" cy="270180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1" descr=""/>
          <p:cNvPicPr/>
          <p:nvPr/>
        </p:nvPicPr>
        <p:blipFill>
          <a:blip r:embed="rId10"/>
          <a:stretch/>
        </p:blipFill>
        <p:spPr>
          <a:xfrm>
            <a:off x="3925800" y="4522680"/>
            <a:ext cx="5168880" cy="245772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низ 52"/>
          <p:cNvSpPr/>
          <p:nvPr/>
        </p:nvSpPr>
        <p:spPr>
          <a:xfrm>
            <a:off x="3497400" y="2327400"/>
            <a:ext cx="223560" cy="7412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53"/>
          <p:cNvSpPr/>
          <p:nvPr/>
        </p:nvSpPr>
        <p:spPr>
          <a:xfrm>
            <a:off x="5753160" y="3084480"/>
            <a:ext cx="253800" cy="16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54"/>
          <p:cNvSpPr/>
          <p:nvPr/>
        </p:nvSpPr>
        <p:spPr>
          <a:xfrm>
            <a:off x="7954920" y="2549520"/>
            <a:ext cx="206280" cy="5191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55"/>
          <p:cNvSpPr/>
          <p:nvPr/>
        </p:nvSpPr>
        <p:spPr>
          <a:xfrm>
            <a:off x="6775560" y="3656160"/>
            <a:ext cx="207720" cy="1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56"/>
          <p:cNvSpPr/>
          <p:nvPr/>
        </p:nvSpPr>
        <p:spPr>
          <a:xfrm>
            <a:off x="982800" y="2579760"/>
            <a:ext cx="163440" cy="2142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57"/>
          <p:cNvSpPr/>
          <p:nvPr/>
        </p:nvSpPr>
        <p:spPr>
          <a:xfrm>
            <a:off x="1055520" y="3851280"/>
            <a:ext cx="125640" cy="3319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58"/>
          <p:cNvSpPr/>
          <p:nvPr/>
        </p:nvSpPr>
        <p:spPr>
          <a:xfrm rot="17948400">
            <a:off x="3181320" y="3161880"/>
            <a:ext cx="214200" cy="18874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59"/>
          <p:cNvSpPr/>
          <p:nvPr/>
        </p:nvSpPr>
        <p:spPr>
          <a:xfrm rot="7341600">
            <a:off x="2700720" y="2167560"/>
            <a:ext cx="209880" cy="118584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343080" y="193680"/>
            <a:ext cx="8716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1" descr=""/>
          <p:cNvPicPr/>
          <p:nvPr/>
        </p:nvPicPr>
        <p:blipFill>
          <a:blip r:embed="rId1"/>
          <a:stretch/>
        </p:blipFill>
        <p:spPr>
          <a:xfrm>
            <a:off x="542880" y="1835280"/>
            <a:ext cx="8551800" cy="4906800"/>
          </a:xfrm>
          <a:prstGeom prst="rect">
            <a:avLst/>
          </a:prstGeom>
          <a:ln w="0">
            <a:noFill/>
          </a:ln>
        </p:spPr>
      </p:pic>
      <p:sp>
        <p:nvSpPr>
          <p:cNvPr id="255" name="Полилиния 5"/>
          <p:cNvSpPr/>
          <p:nvPr/>
        </p:nvSpPr>
        <p:spPr>
          <a:xfrm>
            <a:off x="2057400" y="131760"/>
            <a:ext cx="6919920" cy="1855800"/>
          </a:xfrm>
          <a:prstGeom prst="pie">
            <a:avLst/>
          </a:prstGeom>
          <a:solidFill>
            <a:srgbClr val="f5c2a3"/>
          </a:solidFill>
          <a:ln cap="rnd"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0480" rIns="150480" tIns="150480" bIns="150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критериями отнесения ребенка к категории детей, находящихся в трудной жизненной ситуации, при наличии проблем в обеспечении надлежащих условий воспитания и проживания, указанных выше групп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00:31Z</dcterms:created>
  <dc:creator>Бовсун Ольга Владимировна</dc:creator>
  <dc:description/>
  <dc:language>en-US</dc:language>
  <cp:lastModifiedBy>Лабазанова Валентина Николаевна</cp:lastModifiedBy>
  <cp:lastPrinted>2019-04-23T06:00:57Z</cp:lastPrinted>
  <dcterms:modified xsi:type="dcterms:W3CDTF">2021-03-12T07:05:08Z</dcterms:modified>
  <cp:revision>551</cp:revision>
  <dc:subject/>
  <dc:title>Слайд 1</dc:title>
</cp:coreProperties>
</file>